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AC64-AF09-4874-924B-6615A217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BCA3-80B5-4898-B5AF-E1BF782B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2C78C-7FE9-4399-8A99-890FBC4B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99DA-2D8B-42B0-ADF1-27AB525A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88BA-796E-46EC-93A5-EB50459A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3A4D-A27D-408B-A016-A33098B9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96EE-D035-418B-B80B-C27B59C5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E7C2-11DA-4121-9277-9FA28D9E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BB13-3835-4558-96B1-0B649FA0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2BE9-AEAE-4FBD-96A5-AD1B7962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B28E-69B9-4E56-8E0A-858A39B2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2EAC-2296-4137-BD4C-8EDCA6E6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8667-8C5F-4893-BB70-F529103A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147A-C774-4633-89ED-3CA7D4E8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3D25-E93D-4ECB-8986-A1901000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5974-4F54-49F8-8A1F-1BA334B9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90CA-B7B7-4CBC-87F1-4B128DF9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22840-4D9F-453F-A3C9-E50ED16E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DA3B-01D9-491A-A7A3-031105F4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9822-FE27-4BB7-BD43-1DE058B2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3A02-F878-4BD5-AC1E-F2F28290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BB08-7C75-4908-B623-0FBBEA28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1BCF-9C42-4935-B3D7-987D65F4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9DBF-3BC3-41BE-88E8-1D52B5CF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1F18-32FB-4736-96B5-95AAEAC507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7569-42C1-40A2-9E70-4330FBB045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04320" y="90792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tle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8320" y="26028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versity 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9480" y="141300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jec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38600" y="4292640"/>
            <a:ext cx="32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cture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Student 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1120" y="5141880"/>
            <a:ext cx="29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o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840" y="477504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ail Address -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01120" y="5950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447840"/>
            <a:ext cx="5459400" cy="1109520"/>
          </a:xfrm>
          <a:prstGeom prst="wedgeRectCallout">
            <a:avLst>
              <a:gd name="adj1" fmla="val 8736"/>
              <a:gd name="adj2" fmla="val -7661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lide Trans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andom Bars Ver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y o All 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ign Templa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mplate\Design Template.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7000"/>
            <a:ext cx="6049800" cy="719280"/>
          </a:xfrm>
          <a:prstGeom prst="wedgeRectCallout">
            <a:avLst>
              <a:gd name="adj1" fmla="val -33444"/>
              <a:gd name="adj2" fmla="val -1126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fter per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1747800"/>
            <a:ext cx="6193080" cy="1440000"/>
          </a:xfrm>
          <a:prstGeom prst="wedgeRectCallout">
            <a:avLst>
              <a:gd name="adj1" fmla="val -40412"/>
              <a:gd name="adj2" fmla="val -7789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~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fter per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444760"/>
            <a:ext cx="6193080" cy="1440000"/>
          </a:xfrm>
          <a:prstGeom prst="wedgeRectCallout">
            <a:avLst>
              <a:gd name="adj1" fmla="val -13648"/>
              <a:gd name="adj2" fmla="val -8682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~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2660760"/>
            <a:ext cx="6192720" cy="1439640"/>
          </a:xfrm>
          <a:prstGeom prst="wedgeRectCallout">
            <a:avLst>
              <a:gd name="adj1" fmla="val -23495"/>
              <a:gd name="adj2" fmla="val 7932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997360"/>
            <a:ext cx="6193080" cy="1439640"/>
          </a:xfrm>
          <a:prstGeom prst="wedgeRectCallout">
            <a:avLst>
              <a:gd name="adj1" fmla="val -29467"/>
              <a:gd name="adj2" fmla="val 7414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~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3800" y="3429000"/>
            <a:ext cx="6193080" cy="1440000"/>
          </a:xfrm>
          <a:prstGeom prst="wedgeRectCallout">
            <a:avLst>
              <a:gd name="adj1" fmla="val -27546"/>
              <a:gd name="adj2" fmla="val 750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~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4021200"/>
            <a:ext cx="6192720" cy="1439640"/>
          </a:xfrm>
          <a:prstGeom prst="wedgeRectCallout">
            <a:avLst>
              <a:gd name="adj1" fmla="val -16495"/>
              <a:gd name="adj2" fmla="val 85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~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81240" y="59220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680" y="14436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0880" y="231840"/>
            <a:ext cx="6192720" cy="1655640"/>
          </a:xfrm>
          <a:prstGeom prst="wedgeRectCallout">
            <a:avLst>
              <a:gd name="adj1" fmla="val -59175"/>
              <a:gd name="adj2" fmla="val -3197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fter per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5600" y="99864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b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1630440"/>
            <a:ext cx="6119640" cy="1511280"/>
          </a:xfrm>
          <a:prstGeom prst="wedgeRectCallout">
            <a:avLst>
              <a:gd name="adj1" fmla="val -42476"/>
              <a:gd name="adj2" fmla="val -692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stom anima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rance\( Blinds\dissolve i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757600" y="3832200"/>
                <a:ext cx="36655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ι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ξ,ψ</m:t>
                    </m:r>
                    <m:r>
                      <m:t xml:space="preserve">)</m:t>
                    </m:r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Δ</m:t>
                        </m:r>
                      </m:lim>
                    </m:limUpp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κ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Ι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κ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ξ,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ψ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ι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Ι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,ψ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965240" y="5330880"/>
            <a:ext cx="6193080" cy="934920"/>
          </a:xfrm>
          <a:prstGeom prst="wedgeRectCallout">
            <a:avLst>
              <a:gd name="adj1" fmla="val -10009"/>
              <a:gd name="adj2" fmla="val -725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ion Ed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trance\( 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pend on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52240" y="34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47960" y="458640"/>
            <a:ext cx="2214360" cy="185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30880" y="473040"/>
            <a:ext cx="2342880" cy="1852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76360" y="2398680"/>
            <a:ext cx="6192720" cy="934920"/>
          </a:xfrm>
          <a:prstGeom prst="wedgeRectCallout">
            <a:avLst>
              <a:gd name="adj1" fmla="val -9625"/>
              <a:gd name="adj2" fmla="val -9346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trance\( 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pend on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0120" y="349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i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9800" y="3716280"/>
          <a:ext cx="5541840" cy="27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3716280"/>
                    <a:ext cx="554184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56160" y="3284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637000"/>
            <a:ext cx="6192720" cy="934920"/>
          </a:xfrm>
          <a:prstGeom prst="wedgeRectCallout">
            <a:avLst>
              <a:gd name="adj1" fmla="val -32953"/>
              <a:gd name="adj2" fmla="val 8531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trance\( 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pend on situation and chart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7:26:42Z</dcterms:created>
  <dc:creator>dci</dc:creator>
  <dc:description/>
  <dc:language>en-US</dc:language>
  <cp:lastModifiedBy>x</cp:lastModifiedBy>
  <dcterms:modified xsi:type="dcterms:W3CDTF">2004-05-08T13:32:18Z</dcterms:modified>
  <cp:revision>17</cp:revision>
  <dc:subject/>
  <dc:title>Slide 1</dc:title>
</cp:coreProperties>
</file>